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2D0-AF14-4CF5-BFF3-6FD1DA78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B76-9048-4D31-88FC-86B73EAC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87A-DEAD-4B0F-8A1D-945389DA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BFA-E03A-4CE4-9425-708AC92A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2F9-B3A8-4AED-9F68-84A76EC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8E6-B513-41B2-8D4C-2F90D977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711-9A9F-4F13-BF40-36E49F76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F13-7DCF-42D9-8649-0EDB1524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3E7-C846-4E0C-A701-58595CCF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C50-8879-4DFA-B043-BE957EA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3A1-D313-452F-8FA6-F66F28A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05E-526D-4451-B6AC-ADA58CF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CA27-F423-4BBD-8D98-79B05C43E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eb.mit.edu/invent/iow/hulahoop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447920"/>
            <a:ext cx="4800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ula Hoo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39625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rra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0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ula Hoop"/>
          <p:cNvPicPr/>
          <p:nvPr/>
        </p:nvPicPr>
        <p:blipFill>
          <a:blip r:embed="rId2"/>
          <a:stretch/>
        </p:blipFill>
        <p:spPr>
          <a:xfrm>
            <a:off x="0" y="0"/>
            <a:ext cx="9144000" cy="145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4191120"/>
            <a:ext cx="525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ry_Little_Wo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. 27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op girl"/>
          <p:cNvPicPr/>
          <p:nvPr/>
        </p:nvPicPr>
        <p:blipFill>
          <a:blip r:embed="rId2"/>
          <a:stretch/>
        </p:blipFill>
        <p:spPr>
          <a:xfrm>
            <a:off x="152280" y="152280"/>
            <a:ext cx="2895840" cy="343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2900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505320"/>
            <a:ext cx="266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Richard Knerr and Spud Melin Feb 23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hulahoo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52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Knerr and Spud Melin invented the hula hoop. I have a hula hoop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76720" y="762120"/>
            <a:ext cx="3581280" cy="33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14800" y="4114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Hula H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la hoops used to be made out of vine, plants, wood, or 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ame came from a Hawaiian dance that imitated the movement of the hula ho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m-o sold 25 million hula hoops in two mon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end of 1958, after 45 million dollars, the craze started to go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la hoop could cause sprains, pains, and even heart att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used as an exercise for adults and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s: Richard Knerr and Spud M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a hoops started to die out at the end of 195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Knerr and Spud Melin discovered the frisb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5181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03:05Z</dcterms:created>
  <dc:creator>install</dc:creator>
  <dc:description/>
  <dc:language>en-US</dc:language>
  <cp:lastModifiedBy>install</cp:lastModifiedBy>
  <dcterms:modified xsi:type="dcterms:W3CDTF">2012-03-09T15:00:49Z</dcterms:modified>
  <cp:revision>5</cp:revision>
  <dc:subject/>
  <dc:title>Slide 1</dc:title>
</cp:coreProperties>
</file>